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09F0-E506-4D52-9C72-8151CBD1132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522A-6593-46B6-B8DE-CB6F9C538C03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61EE-608C-4CD1-A97A-4B25D8393B81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1CEF0-1F50-4D9F-83A9-48E83AE9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5A402-16D2-46EB-B43D-8CBC742A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0460E-5D8A-40B6-82F5-887B60E0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EB872-ECF1-48EF-BFCF-6CFC771F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C8DB-9F0E-4E59-9498-0E603B3F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61C5-9D71-4824-8F34-7EF6D095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6D55-E4BF-43BB-BAEF-6B5979EE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4F41-2200-4106-9778-A43FE365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769C-0BBE-4DCB-980B-406AAA77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01E4-8602-432D-89DF-34D7EE1D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B3D9-7806-40D0-A9B4-C67B77F9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2CF60-E36B-48AF-9669-D73C3C49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E2E4-2125-4C24-9FE6-A8C125B8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F0B8-C824-42D1-BEC4-1C3AA8E8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33B9-25BE-4D6B-BB98-01C9491B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A5F2-2545-42B2-B09E-4AC42756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1927-C7F9-4335-A3C6-734941D1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52451-692F-4F42-A3A7-70D776E5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A6A1B-E6B3-4E10-99D5-5A716AE0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B982E-23EF-454C-A2CA-26FE58EF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EFB81-0DEA-43B9-B47B-89812AA0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EA85E-76BC-42C9-AC41-986F7441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D3054-15EB-4D68-ADB6-8F24391C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507D4-01B0-4C22-988A-D17A59B7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20F0-186F-4005-AC23-181467CC9D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C1A3-C203-4EDF-9CA2-8DF59F1B57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Français 3 – Unité 1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 lo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ire – Les pièces de la mai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Screen Shot 2013-10-16 at 9.47.43 AM.png"/>
          <p:cNvPicPr/>
          <p:nvPr/>
        </p:nvPicPr>
        <p:blipFill>
          <a:blip r:embed="rId1"/>
          <a:stretch/>
        </p:blipFill>
        <p:spPr>
          <a:xfrm>
            <a:off x="60480" y="-76320"/>
            <a:ext cx="8931240" cy="70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3-10-16T13:50:23Z</dcterms:modified>
  <cp:revision>89</cp:revision>
  <dc:subject/>
  <dc:title>Allez, viens! – Level 2</dc:title>
</cp:coreProperties>
</file>